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5849-3723-4D33-B556-4965BB8D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AB7-BB6F-44E1-ABD0-69556774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1C5-ECB0-4CF8-B163-733361D6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97FA-F520-4F47-BF1B-D72B59FA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8FBB-116E-460A-845C-E297530F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9EB3-9112-4451-B415-1898DA23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1BB9-C9A2-4C52-875B-E811027D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061A-F58A-4703-9B79-36D8AA54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4DA4-DA4C-4899-8C25-1FF129FF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55DB-C677-451D-BA3E-E2A53FA9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5680-4CBD-49AE-A9C3-C512D1CA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5C44-1917-4FBC-B4FD-E9C5E298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9A5B-8E75-4DCA-8523-E846DB1F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70D1-72AB-4D45-ABC1-0845596A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9D08-462A-4A0F-BB76-8C952A17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3D17-88D5-4EFE-96E9-04D99239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7F1A-C353-488F-B756-25B8CCB2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EF2E4-7F70-4B82-B4DB-378DD2EA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08888-B739-4B37-9E08-3FB6F352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91BA7-28B9-4CA3-9C31-742A510F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B6184-DF89-4571-8B75-A4673AFC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4980F-6751-4352-929F-F423D015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51A-78BE-482A-AF1E-81FBAEDC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AE6C6-1715-4234-831A-F4B5CC00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7B40D-75FC-4B59-8856-9A8846D2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B0241-E160-4B13-82FF-0FCB46D5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61F30-B260-4602-8503-4840BB61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B88F2-DAC6-4711-B9A5-A6FCC0A4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658F9-63EA-45F9-9CE3-12729DF7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6D0C9-DE6F-4EBA-B069-1DFA24D6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C4743-C10D-43CD-B575-BD8F5F9C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136E0-408F-4AA6-B67B-2EC44C4C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E425A-5C09-452F-B3E6-44E99E60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D956-DDB0-4412-A6F9-39009FE5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7A671-D782-4F5B-8820-6B662E9B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8F6F3-70A6-4A28-BF25-3E77CF81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5E981-3CE4-4470-9DFA-9282CB83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4D0A7-EB18-44AF-A998-3458E71A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4FEFD-8809-4ECC-85D3-B37B4017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0F9E5-030F-41B2-89F6-10C10BC2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92D42-7593-43AF-9FEF-A5FB7B34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972C1-1976-4423-A835-6C59FA20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C9F3F-A953-4E63-BCC3-4A46BA8D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59125-89E0-4918-BD87-948A1948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4A3-E485-481E-B373-26CBD759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7A8A5-B56F-4258-9087-E8346B99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6F635-426E-44EA-A320-7DDCFB9D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F7CD6-70CA-4BB0-B709-A6120509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44120-D8CE-4101-942C-D415DA8E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42224-414F-49DA-A060-EA1E5925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D426A-43ED-48D6-860C-E0D982B6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F19B6-D0DB-4783-BFDA-03E9FCAD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2F895-DAFF-405C-8B44-FEAB04CE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A5A10-0CCA-4029-B1C3-B32CA64D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B7702-BDEC-4526-A6B9-5DC0BF38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A62-F7F2-4A1C-8E51-89F72CB8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44039-3F19-4DDA-B248-85C0E071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E81-5AF7-45FE-ACCE-D0737711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355-A2E4-458A-8477-527D5A98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749-9258-4818-B067-8BA6D958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E979C-A3EE-4110-9BFA-83F6B57A44C4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917D2-D259-4546-8516-66EBA26A0CBC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4E00F-18D2-4E23-8387-F06140D5139D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2A4BA-57D9-4CCF-92E9-F60F5F91D32E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ED970-31D9-4C2A-9FA8-455E719BA5B6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62120" y="2071440"/>
            <a:ext cx="826776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Ο</a:t>
            </a:r>
            <a:r>
              <a:rPr b="0" lang="en-US" sz="4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ΚΟΣΜΟΣ ΤΩΝ ΚΛΑΣΜΑΤΩΝ 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Δημιουργός: Πελαγία Μπέλλου 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2920" y="371160"/>
            <a:ext cx="495756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Κλάσματα </a:t>
            </a:r>
            <a:br>
              <a:rPr sz="4000"/>
            </a:b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                </a:t>
            </a:r>
            <a:br>
              <a:rPr sz="4000"/>
            </a:br>
            <a:br>
              <a:rPr sz="4000"/>
            </a:b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1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2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Fraction clipart 20 free Cliparts | Download images on Clipground 2023"/>
          <p:cNvPicPr/>
          <p:nvPr/>
        </p:nvPicPr>
        <p:blipFill>
          <a:blip r:embed="rId4"/>
          <a:stretch/>
        </p:blipFill>
        <p:spPr>
          <a:xfrm>
            <a:off x="6699240" y="534960"/>
            <a:ext cx="2860560" cy="3295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Fractions clipart 20 free Cliparts | Download images on Clipground 2023"/>
          <p:cNvPicPr/>
          <p:nvPr/>
        </p:nvPicPr>
        <p:blipFill>
          <a:blip r:embed="rId5"/>
          <a:stretch/>
        </p:blipFill>
        <p:spPr>
          <a:xfrm>
            <a:off x="981000" y="3494160"/>
            <a:ext cx="2724120" cy="3111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404 - File or directory not found. | Math, Math made easy, Teacher websites"/>
          <p:cNvPicPr/>
          <p:nvPr/>
        </p:nvPicPr>
        <p:blipFill>
          <a:blip r:embed="rId6"/>
          <a:stretch/>
        </p:blipFill>
        <p:spPr>
          <a:xfrm>
            <a:off x="4110120" y="1449360"/>
            <a:ext cx="21844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17720" y="232920"/>
            <a:ext cx="3146400" cy="636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Η</a:t>
            </a:r>
            <a:r>
              <a:rPr b="1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r>
              <a:rPr b="1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ώ</a:t>
            </a:r>
            <a:r>
              <a:rPr b="1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ρα και τα κλασματα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ι σημα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ί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νουν οι εκφρασει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ς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;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Θα 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έ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ρθω σε 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έ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να τ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έ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αρτο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ε 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ρ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ί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α τ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έ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αρτα 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σχολ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ά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με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Με ποιες εικόνες ταιριάζουν</a:t>
            </a:r>
            <a:r>
              <a:rPr b="0" lang="el-GR" sz="4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8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29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0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ΜΑΘΗΜΑΤΙΚΑ Ε – ΠΑΙΖΩ ΚΑΙ ΜΑΘΑΙΝΩ ΤΑ ΚΛΑΣΜΑΤΑ | Αφιερωμένο στα μαθητούδια!"/>
          <p:cNvPicPr/>
          <p:nvPr/>
        </p:nvPicPr>
        <p:blipFill>
          <a:blip r:embed="rId4"/>
          <a:srcRect l="52764" t="36236" r="2327" b="-1942"/>
          <a:stretch/>
        </p:blipFill>
        <p:spPr>
          <a:xfrm>
            <a:off x="4392720" y="1041480"/>
            <a:ext cx="479556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90520" y="579600"/>
            <a:ext cx="62420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Συνταγές  και Κλάσματα 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3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3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5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1852560" y="1308240"/>
            <a:ext cx="29876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ΚΕΙ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ΥΛΙΚ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¼ 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 ΤΟΥ ΚΙΛΟΥ </a:t>
            </a: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ΒΟΥΤΥΡ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¼ 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ΟΥ ΚΙΛΟΥ </a:t>
            </a: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ΖΑΧΑΡ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½ 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ΟΥ ΚΙΛΟΥ </a:t>
            </a: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ΑΛΕΥΡ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3 ΑΒΓ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1 ΒΑΝΙΛΙ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5211720" y="2550960"/>
            <a:ext cx="2986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35b7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Ι ΠΑΡΑΤΗΡΕΙΣ ΣΤΙΣ ΥΠΟΓΡΑΜΜΙΜΕΝΕΣ ΦΡΑΣΕΙ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35b7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ΠΟΙΑ Η ΣΗΜΑΣΙΑ ΤΟΥ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187200"/>
            <a:ext cx="3502080" cy="65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ο κλάσμα είναι μια διαίρεση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Φανερώνει </a:t>
            </a:r>
            <a:r>
              <a:rPr b="0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ο </a:t>
            </a:r>
            <a:r>
              <a:rPr b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μέρος </a:t>
            </a:r>
            <a:r>
              <a:rPr b="0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ενός συνόλου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Για παράδειγμα, το κλάσμα </a:t>
            </a:r>
            <a:r>
              <a:rPr b="1" lang="el-GR" sz="28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¼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μου δείχνει ότι πήρα 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ο 1 από τα 4 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κομμάτια της πίτσας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ι φανερώνουν τα κλασματα στις εικόνες; 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Διαδραστική άσκηση</a:t>
            </a: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ι μέρος της πίτσας έφαγα; - Βρες το ταίρι (wordwall.net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71600" y="2638080"/>
            <a:ext cx="96012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0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2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ola compañeros y amigos que nos visitan compartimos este fabuloso ..."/>
          <p:cNvPicPr/>
          <p:nvPr/>
        </p:nvPicPr>
        <p:blipFill>
          <a:blip r:embed="rId4"/>
          <a:srcRect l="0" t="4899" r="0" b="4163"/>
          <a:stretch/>
        </p:blipFill>
        <p:spPr>
          <a:xfrm>
            <a:off x="4402080" y="368280"/>
            <a:ext cx="49086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32920"/>
            <a:ext cx="8761320" cy="13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ΠΟΙΑ ΕΙΝΑΙ ΤΑ ΚΛΑΣΜΑΤΑ ΣΤΗΝ ΕΙΚΟΝΑ;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5" name="Εικόνα 3" descr=""/>
          <p:cNvPicPr/>
          <p:nvPr/>
        </p:nvPicPr>
        <p:blipFill>
          <a:blip r:embed="rId1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46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7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Pin de Lorena Diaz en de todo un poco. | Fracciones para primaria ..."/>
          <p:cNvPicPr/>
          <p:nvPr/>
        </p:nvPicPr>
        <p:blipFill>
          <a:blip r:embed="rId4"/>
          <a:stretch/>
        </p:blipFill>
        <p:spPr>
          <a:xfrm>
            <a:off x="1217520" y="1552680"/>
            <a:ext cx="3853080" cy="4803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1371600" y="2286000"/>
            <a:ext cx="9601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26800" y="70344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ΤΙΑΧΝΩ ΚΛΑΣΜΑΤΑ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69760" y="2041560"/>
            <a:ext cx="876132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Διαδραστικές ασκήσεις ‪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εισαγωγή στα κλάσματα‬ (colorado.edu)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‪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φτιάξε ένα κλάσμα‬ (colorado.edu)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2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5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54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8:01:38Z</dcterms:modified>
  <cp:revision>138</cp:revision>
  <dc:subject/>
  <dc:title>Παρουσίαση του PowerPoint</dc:title>
</cp:coreProperties>
</file>